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027-C9B9-47E9-B2E2-B22F9BD4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753-6512-4689-B2CB-43A1FB3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935-6ED7-44A5-ACCA-0E61DAE4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5177-E953-4273-B77D-B4CDBC98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80C8-1BA6-460B-A71F-425148D9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06F7-E314-4164-937C-F15981EE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0A3B-62E4-47F3-8F77-E8DEFCA2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DE5B-D547-40EC-A4A2-76919A68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04C0-920F-4220-9C7A-BB4772F1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D3F0-4AAE-4ADE-AEE7-D8746976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0E83-395D-496E-84DF-02A20BC7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F181-3401-4701-8546-B04D636A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BE08-D28D-43A8-A0AB-6A34B10B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E3F-B12D-49F1-894E-068B845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1DA8-8BC4-4DB0-BAB3-0A50B11F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B97C-C96B-41FB-8255-A8D501ED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62EB-0102-4CBE-84D6-6137D91C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62C5C-5C71-4C9D-9ECA-A910F382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8ABB-3BAA-4589-B8F5-40680EB1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290D-182E-4BAF-B16F-4B938D78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BF0B-8BE7-4B53-AE84-F4B7F81F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481F-18FA-4136-B1B0-DD925BEC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D0A-6443-466A-810D-EE58ED49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1D5F-4E1B-4E6A-844F-FF9981ED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F6B5-AFA0-4986-9BA4-C8AA5867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C21C-7D02-481E-8A36-BC15017B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99335-BE3C-47AE-975D-D17EDF6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81A9-5C17-4A53-A97E-5EECFE1B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425F-D010-432E-8BFD-E14347CC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CAA0-2EF3-4653-9CE8-740FB902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10A51-C336-4F2B-9B87-CB50C0CC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6CEA-1796-4F64-8CAC-BA1B54D3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69B1-C9EA-4952-93D1-50623AED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2C3-12DB-467C-92D4-9EA42438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76A6-C087-4C2E-B92B-A22BA1EA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62388-8154-4FE2-9E1B-48FE0566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8B3DB-6612-4774-A959-DB97BADC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D92B-AA40-4E87-BFE9-9EED7EA8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99682-A360-4BB9-A00C-F296F075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E4586-B2CE-4D44-B6E1-9A5E792B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CE1F-6D78-4BD3-A40D-6F381E74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E5D71-7630-4144-8CDE-A5016F09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55C7-3C2B-4D07-B34B-C493CD4E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F61-5D8D-460F-8DDA-A53909FB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19F-1B35-4EE9-AA98-FA8E2C7A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EE4-9051-4448-B924-A3625F62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22A-7ABB-454A-9B3A-EA38D8B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732-0C31-4919-85DF-EFEE9FE1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3BE0-C35B-4791-A60D-EF2EDB20603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0BA1-2F08-403A-83ED-61BDC7075EE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884A-12F8-437B-81D1-96321B5D50C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D8AD-B532-43E3-942D-FE74667512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240" y="2209680"/>
            <a:ext cx="6705720" cy="24386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nstantia"/>
              </a:rPr>
              <a:t>Program Evaluation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Alternative Approaches and Practical Guidelin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ge 36 Question #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der a program in your organiz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f it were to be evaluated, what might be the purpose of the evaluation at this point in tim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der the stage of the program and the information needs of different stakeholder grou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might be the role of the evaluators in conducting the evaluation? (i.e. facilitator, collaborator, management consultant, social change agent, program planning, etc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pp. 16 - 1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ge 35 #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kind of evaluation do you think is most useful – formative or summative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kind of evaluation would be most useful to you in your work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kind of evaluation would be most useful to your school or school boar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 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Evaluation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or fix the value of: to examine and judg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thors’ definition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identification, clarification, and application of defensible criteria to determine an evaluation object’s value (worth or merit) in relation to those criteria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p. 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are the characteristics of a “program”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et of planned systematic activ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ing managed 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achieve specified go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lated to specific nee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rticipants are specific individuals or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ults in documentable outcomes and impac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estigable costs and benef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 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the definition of a program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thors’ defini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ngoing, planned intervention that seeks to achieve some particular outcome(s), in response to some perceived educational, social, or commercial problem”.  (p. 8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Question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es Evaluation differ from research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Constantia"/>
              </a:rPr>
              <a:t>Research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: primary purpose is to add to knowledge in a field, to contribute to the growth of theory (p. 9)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Constantia"/>
              </a:rPr>
              <a:t>Evaluation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: primary purpose is to provide useful information to those who hold a stake in whatever is being evaluated (stakeholders), often helping them to make a judgment or decision. (p. 9)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earch vs. 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80880" y="1371600"/>
          <a:ext cx="8229600" cy="5038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urp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dd to knowledge in a field, develop laws and the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ake judgments, provide information for decision ma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o sets the agenda or focu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searc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akeholders and evaluator join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eneralizability of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mportant to add to the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ess important, focus is on particulars of program or policy and con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nded use of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t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n important stand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riteria to judge adequ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nal and external val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curacy, utility, feasibility, propriety, evaluation account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eparation of those who work in ar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pth in subject matter, fewer methodological tools and approa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nterdisciplinary, many methodological tools, interpersonal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takehold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o is considered upstream, who is midstream, and who is downstream in regard to Talmage’s (1982) model of evaluation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Upstre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make decision on whether to continue, initiate, or change funding for pro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Midstre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program managers (principals), program staff (teachers, counselors, nurse, etc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ownstrea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parents, students, community memb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Ter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tive vs. Summative (p. 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they diff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ormati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focus on program improv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ummati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more concerned with providing information to make decisions about program adoption, continuation, or expan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Formative vs. Summative</a:t>
            </a:r>
            <a:br>
              <a:rPr sz="4500"/>
            </a:b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(Upstream, Midstream &amp; Downstream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were conducting a formative evaluation, which of the “streams” do you think would be your audience?  Construct support for your answ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were conducting a summative evaluation, which of the “streams” do you think would be your audience?  Construct support for your answ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4:37:06Z</dcterms:created>
  <dc:creator>rschultz</dc:creator>
  <dc:description/>
  <dc:language>en-US</dc:language>
  <cp:lastModifiedBy>rschultz</cp:lastModifiedBy>
  <dcterms:modified xsi:type="dcterms:W3CDTF">2011-02-04T00:09:34Z</dcterms:modified>
  <cp:revision>7</cp:revision>
  <dc:subject/>
  <dc:title>Chapter 1</dc:title>
</cp:coreProperties>
</file>